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821-AA30-481A-AB23-D156FB92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4F2-5FD3-4833-A0C1-0C6A343C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930E-11B9-4338-82EA-719D7EC4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1B8-C793-4A37-BD92-376076CD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440-B777-4878-B25C-5B011B0D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1EB-D484-4A25-B839-A3F726F8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4CD-8007-4657-8F2E-7ADEC6BD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97FC-F666-452F-8521-17A07C70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6E3-CCD6-4D9A-B44D-A6AEF853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B95-6757-486F-839B-51562EC3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2B6A-A96E-4E2A-A218-66EF7E30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0E8-3E43-40AD-B2F0-263BB9D7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9810-0D76-44A0-99BD-739EFF49B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excite.com/" TargetMode="External"/><Relationship Id="rId3" Type="http://schemas.openxmlformats.org/officeDocument/2006/relationships/hyperlink" Target="http://www.dogpile.com/" TargetMode="External"/><Relationship Id="rId4" Type="http://schemas.openxmlformats.org/officeDocument/2006/relationships/hyperlink" Target="http://www.search.com/" TargetMode="External"/><Relationship Id="rId5" Type="http://schemas.openxmlformats.org/officeDocument/2006/relationships/hyperlink" Target="http://www.yahoo.com/" TargetMode="External"/><Relationship Id="rId6" Type="http://schemas.openxmlformats.org/officeDocument/2006/relationships/hyperlink" Target="http://www.looksmart.com/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Researching on the Intern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: Cassy Bartu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s of 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 with one author and/or 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ham, Richard (author)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Electronic Word: Democracy, Technology, and the Art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title of book). Chicago (where published): U of Chicago (who published), 1994 (when publish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gazine artic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ham, Richard (author). "The Man Who Would be King" (title of magazine article)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wswee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title of magazine). October 29, 1996 (date of magazi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et sour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ham, Richard (author). "The Man Who Would be King" (title of page)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wswee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itle of main page [home page]). October 29, 1996 (date of last update or copyright) &lt;http://www.manwhowouldbeking.com &gt; (internet address). February 4, 2002 (date site was visi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k cited p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ib.monash.edu.au/vl/www/wwwcon.ht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onash.com/spidap4.html#keyw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windweaver.com/searchguide.htm#PRELIMIN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dictionary.reference.com/browse/Boolean%20logic%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s082.k12.sd.us/My_Classes/Cross-Curricular/citing_sources.ht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fore you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nk about the information you are searching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uld a print or other electronic source be more appropriate such as: an encycloped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uld it be better to use a search engine or a subject direct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ords would best describe your sub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ing the steps below will help you to simplify your ques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your topic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key concepts in your question? List th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re other ways in which you can express these key concep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rch Op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amples of Places to search for your topic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ternet: 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oogle.com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xcite.com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these are called Search Engin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tasearches are 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dogpile.com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search.com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re is also things called directories or Subject Getaways which are organized lists of web pages, divided into subject areas. Examples of these would be 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yahoo.com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looksmart.com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4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y Words in Searching the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search engines do their text query and retrieval using keywords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 keyword, exactly?  It can simply be any word on a webp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-text indexing systems generally pick up every word in the text except commonly occurring stop words such as "a," "an," "the," "is," "and," "or," and "www."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a phrase or proper name if possible to narrow your searc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therefore retrieve more relevant results (unless you want a larg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resul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y attention to proper spacing and punctuation in your se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y Words in Searching the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have a multi-term search, be sure to determine which type of Boolean logic you should use. For example, a search about the relationship between latitude and temperature can be formulated as:   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latitude   + tempera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n many Web search engines in order for AND logic to app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olean logic is a system of symbolic logic devised by George Boole; used in computers examples would be AND OR NOT you could also us +/-  for Boolean logic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may find be asking yourself what do these results m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some tips to help you figure out what your results mean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relevant pages should appear at the top of the lis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often some information to help you decide which pages to look at in detai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always refine your search to reduce the amount of material you retrie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you check your information to make sure that it is relevant to your to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to tell if a website is any g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s responsible for the site - is there a name and contact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ationale for the site - is it endorsing a particular viewpoint to the exclusion of other view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list or bibliography of corroborative eviden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date when the site was last updated - how long ago did this happe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site seem to be permanent or part of a permanent organization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things to remember about researching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more to the internet than search engines and web p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ing good academic material is often best done through gatew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ing more about how search engines work can help you to search more effectiv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ne search engine, directory or database contains a list of everything on the we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 what you find to ensure that it is academically suitable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ing your 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at your work is cited proper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write down the website that you got your work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ng your work is important so you don’t get charged with plagiar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ite your work so people know that those aren’t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6:01:31Z</dcterms:created>
  <dc:creator>Armour User</dc:creator>
  <dc:description/>
  <dc:language>en-US</dc:language>
  <cp:lastModifiedBy>Armour High School</cp:lastModifiedBy>
  <dcterms:modified xsi:type="dcterms:W3CDTF">2007-10-10T15:17:43Z</dcterms:modified>
  <cp:revision>5</cp:revision>
  <dc:subject/>
  <dc:title>Researching on the Internet </dc:title>
</cp:coreProperties>
</file>